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222-FA23-443E-A847-487FF679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A8A-84D2-42B5-A2F9-3DCA340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C06-F1AD-43C9-858F-EB3CB4B1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F4B2-DEF8-46CB-94B1-19D65ADB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251-6108-483D-A858-66CC9305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51D-28B5-47AB-9EB8-C66E8F7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D34-836F-4CDD-8666-A99CB9CA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791-F4F0-4B5D-8D8A-9D519030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39A-4DC0-4A94-888B-56A28EA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FFA-94B9-4FFC-8F0F-7AB2FF1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BD1-EF5C-4714-BA81-8D7B0D1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E91-A826-4861-B45D-E9734B3B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1C7F-1621-49A8-97FA-0BDBADA27A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KM (M&amp;E, Information &amp; Communic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mmunication and docum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gress so f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227640" y="55897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Septem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Progress so fa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4000" y="765000"/>
          <a:ext cx="8434080" cy="6131160"/>
        </p:xfrm>
        <a:graphic>
          <a:graphicData uri="http://schemas.openxmlformats.org/drawingml/2006/table">
            <a:tbl>
              <a:tblPr/>
              <a:tblGrid>
                <a:gridCol w="1882800"/>
                <a:gridCol w="3589200"/>
                <a:gridCol w="296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hiev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-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repackaging of Phase 1 Materi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e 1 outputs on Cg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logue posters finalized and will be on website so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book being final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outcomes stories being finali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to BDC Com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en supporting Volta wor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ing initiative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kong Mov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uencing global deb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bal campaign at WW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to CONDESAN on Rio+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W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CAR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tions and produc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WP paper comple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Briefing notes in the pipeline and being worked 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WF Synthesis re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highlights co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film story in Nile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 to videos, gender stor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s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report being finali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posters produ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delines to be updated based on WLE br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ly up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design unde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e-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itter transferred to W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PWF Community to be transferr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ajor opport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280" y="1125360"/>
            <a:ext cx="8425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messages now we need examples around these messages from pro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 some left over funding for Basins Comms to take advantage of for videos or gender stories. Are people willing/interested to get something done by end of 2012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rtunities to document and demonstrate what we are doing through WLE. We can take a lead in showing what partnerships, impact is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Critical gap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difficult to get research highlights and stories from the basins. How can we improve th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ing science based materials from our research is imper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an we begin to say about the basins or areas we work in? What have we done? What research insights or impacts have we h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we create a series on impacts or research insights using infographics, video and other alternatives med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stay motivated and communicate more regularly togeth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6:47:18Z</dcterms:created>
  <dc:creator>eleborgne</dc:creator>
  <dc:description/>
  <dc:language>en-US</dc:language>
  <cp:lastModifiedBy>Michael Victor</cp:lastModifiedBy>
  <dcterms:modified xsi:type="dcterms:W3CDTF">2012-09-10T09:08:27Z</dcterms:modified>
  <cp:revision>6</cp:revision>
  <dc:subject/>
  <dc:title>CPWF phase 2</dc:title>
</cp:coreProperties>
</file>